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C958-0F3C-4526-9397-BF505557D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5837-C6D2-413C-8FAA-99694E1F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F3A9-6E6C-4BAA-B45B-B9542B13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9295-1CE0-4AF4-BF1A-855895F7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2C0D-0833-40BC-8CF1-4B038B877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70AC-5017-437D-A508-C7839CD2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85E8-A668-4169-B3D3-6696936F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2B69-620C-433C-8173-697C2FFD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FA42-37A8-4ADC-875D-EC77AB1F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A998-F586-4108-8CCA-07E263F6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76AC-932D-4F96-999A-B3805C80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91BB-39B3-4A86-B7EF-438183EB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23D8-746F-4B3C-AA5C-60162DFF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75B7-5581-4AA0-88C1-284461AD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D325-8CCA-439E-8539-5B3045F6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71F0-0750-4581-9BEA-9831FACB7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0B5F-F4E6-4D49-94A6-018F8CB22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CC8C-19C9-45D7-8998-09428751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BEBB-3B4E-4036-A70A-3609FA7A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605B-0FEC-4964-8C2D-1EAE969B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DBDF-6362-439F-9123-EEFAC9D6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179F-0462-48E3-B51C-1615B651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0E4F-2FFB-496F-A7DC-54B1B740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897D-C16D-42F2-9E1B-20738EF5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BC2B-01C2-41A5-A297-7F6931D0386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F7DF-6572-4326-9503-1F83827A103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sgram.narod.ru/" TargetMode="External"/><Relationship Id="rId3" Type="http://schemas.openxmlformats.org/officeDocument/2006/relationships/hyperlink" Target="http://www.orfo.ru/" TargetMode="External"/><Relationship Id="rId4" Type="http://schemas.openxmlformats.org/officeDocument/2006/relationships/hyperlink" Target="http://www.orfo.ru/" TargetMode="External"/><Relationship Id="rId5" Type="http://schemas.openxmlformats.org/officeDocument/2006/relationships/hyperlink" Target="http://www.hi-edu.ru/" TargetMode="External"/><Relationship Id="rId6" Type="http://schemas.openxmlformats.org/officeDocument/2006/relationships/hyperlink" Target="http://www.hi-edu.ru/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069920"/>
            <a:ext cx="777240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stellar"/>
              </a:rPr>
              <a:t>СЛОЖНОЕ  ПРЕДЛОЖЕН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Выполнила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Одолинская Тан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342 групп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5867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astellar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Castellar"/>
              </a:rPr>
              <a:t>Сравните предложения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00"/>
                </a:solidFill>
                <a:latin typeface="Verdana"/>
              </a:rPr>
              <a:t>Они опоздали из-за сильного дождя.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00"/>
                </a:solidFill>
                <a:latin typeface="Verdana"/>
              </a:rPr>
              <a:t>Они опоздали, потому что шел сильный дождь.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286000" y="5562720"/>
            <a:ext cx="399096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stellar"/>
              </a:rPr>
              <a:t>В чем их различие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stellar"/>
              <a:ea typeface="Castel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Castellar"/>
              </a:rPr>
              <a:t>ОСНОВОПОЛАГАЮЩИЙ  ВОПРОС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2544480"/>
            <a:ext cx="80010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Castellar"/>
              </a:rPr>
              <a:t>БЫТЬ  ГРАМОТНЫМ – 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Castellar"/>
              </a:rPr>
              <a:t>                </a:t>
            </a:r>
            <a:r>
              <a:rPr b="1" i="1" lang="en-US" sz="4300" spc="-1" strike="noStrike">
                <a:solidFill>
                  <a:srgbClr val="000000"/>
                </a:solidFill>
                <a:latin typeface="Castellar"/>
              </a:rPr>
              <a:t>ЭТО  ПРОСТО?!..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Castellar"/>
              </a:rPr>
              <a:t>ПРОБЛЕМНЫЕ  ВОПРОС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Какими  бывают  предложения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Каковы различия между видам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сложных предложений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Одинаковы ли правила пунктуации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сложных предложениях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8600" y="422280"/>
            <a:ext cx="798660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Castellar"/>
              </a:rPr>
              <a:t>Этапы проведения проекта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2255760"/>
            <a:ext cx="80010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1) Выбор и формулировка тем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2) Поиск информаци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3) Самостоятельная работа учащихс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4) Защита проект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Как будут представлены результаты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stellar"/>
              </a:rPr>
              <a:t>Эсс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stellar"/>
              </a:rPr>
              <a:t>Творческие презентаци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stellar"/>
              </a:rPr>
              <a:t>Буклет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Информационные  ресурсы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stellar"/>
              </a:rPr>
              <a:t>Учебники по русскому языку (9 кл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stellar"/>
              </a:rPr>
              <a:t>Сайт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ru-RU" sz="2400" spc="-1" strike="noStrike" u="sng">
                <a:solidFill>
                  <a:srgbClr val="336699"/>
                </a:solidFill>
                <a:uFillTx/>
                <a:latin typeface="Castellar"/>
                <a:hlinkClick r:id="rId2"/>
              </a:rPr>
              <a:t>http://rusgram.narod.r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ru-RU" sz="2400" spc="-1" strike="noStrike" u="sng">
                <a:solidFill>
                  <a:srgbClr val="336699"/>
                </a:solidFill>
                <a:uFillTx/>
                <a:latin typeface="Castellar"/>
                <a:hlinkClick r:id="rId3"/>
              </a:rPr>
              <a:t>http</a:t>
            </a:r>
            <a:r>
              <a:rPr b="0" lang="ru-RU" sz="2400" spc="-1" strike="noStrike" u="sng">
                <a:solidFill>
                  <a:srgbClr val="336699"/>
                </a:solidFill>
                <a:uFillTx/>
                <a:latin typeface="Castellar"/>
                <a:hlinkClick r:id="rId4"/>
              </a:rPr>
              <a:t>://www.orfo.r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ru-RU" sz="2400" spc="-1" strike="noStrike" u="sng">
                <a:solidFill>
                  <a:srgbClr val="336699"/>
                </a:solidFill>
                <a:uFillTx/>
                <a:latin typeface="Castellar"/>
                <a:hlinkClick r:id="rId5"/>
              </a:rPr>
              <a:t>http</a:t>
            </a:r>
            <a:r>
              <a:rPr b="0" lang="ru-RU" sz="2400" spc="-1" strike="noStrike" u="sng">
                <a:solidFill>
                  <a:srgbClr val="336699"/>
                </a:solidFill>
                <a:uFillTx/>
                <a:latin typeface="Castellar"/>
                <a:hlinkClick r:id="rId6"/>
              </a:rPr>
              <a:t>://www.hi-edu.r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4-07T05:27:4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